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704-49C1-48B9-9E78-D484A919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7DE-5A07-4042-8D96-DD8BEE2A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060-3F3E-4C05-BDDA-3A06744D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8FB-75DB-4F57-8D38-651C042E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DA9-FCC0-4322-8C73-E0A6F49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9A1-3777-43E5-AEDA-B1F999E3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80D-2ACF-43A3-A4D7-B1000410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D69-AB81-432A-9A2C-7366E8E4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4EA-9648-4854-9E2D-85F0ACE5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C5B-9FCD-4606-85AB-E120CD3C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68B-1261-40D3-8822-47021CB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5A9-973F-4C08-8D73-B98A8EB7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9496-B302-4273-B25A-975D980770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14:03:06Z</dcterms:created>
  <dc:creator>WYC</dc:creator>
  <dc:description/>
  <dc:language>en-US</dc:language>
  <cp:lastModifiedBy>WYC</cp:lastModifiedBy>
  <dcterms:modified xsi:type="dcterms:W3CDTF">2015-07-14T14:03:13Z</dcterms:modified>
  <cp:revision>1</cp:revision>
  <dc:subject/>
  <dc:title>幻灯片 1</dc:title>
</cp:coreProperties>
</file>